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Click to move the slide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CFE7A-03E8-4BF3-BD67-7A79CEAB47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2A988-B210-4D27-A916-729BD6F999E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DF0A7-B532-4544-B4FB-135D5AE8143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9FFF9-C5EC-4D7C-86A4-FBF00CA158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CF9AE-9EAD-4842-AC6A-01BBF5FC4E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75C7-47E1-4AE9-AE67-2B96304A7C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13031-9310-4F42-ABF4-952EB4AAA4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EABF6-5F46-462B-9D01-B4E61B35A0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6CFBB-7EEC-4D93-864C-261CAB3E20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6D3AF-093B-4381-BDE9-1028EAB26D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1E652-8ECA-46EB-9F77-F005453E745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C35E-0085-4635-ACC8-85E93AB02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B608-B667-40C1-B254-87C3A7E65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4EEA-AF04-46F5-A7ED-067020417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74EF-FC45-4DDA-A694-3269C04B2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69635-65F1-4CFD-9788-096BD18DC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D4522-15B0-4CD7-A4F3-5D0E033D7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0051B-26EA-492A-B0A6-22D54352D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E8FE0-B5EC-40D0-B8AE-E69AD8B9C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24862-D943-4174-8A87-69B100866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E4D90-2CE2-4AEE-8FC1-F0C009272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2C1A5-B0C2-4386-A595-79E5A0D5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831C-B97F-4E7C-9BBC-92619D0B8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9D9F0-999F-47A7-8F52-8164B9DD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42AD6-3F59-4B11-9CC3-FB367B0E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67F86-66E2-4A88-A094-9CAC03B4F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C8D42-579F-46DD-B313-5A7036012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AD0C0-A9B8-4270-972F-7237CC221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38CD-1AED-4E9E-8BA6-F6935D21F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CA7F-59C1-4E92-B827-6327B0D32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A7F7-C5DF-430B-8625-0A04D8B69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32AB-DB2F-4A05-89AC-61495FAA4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CF95-0B73-4AFD-96E0-80415536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6089-9E8A-468F-A048-7F73E575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B201-49C7-44EF-AEA7-79BCD8A4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76EAC-D14B-43A3-9DB8-92902D02DD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52018-9FE1-46AE-89E9-12B9F059BF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4647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985f"/>
                </a:solidFill>
                <a:latin typeface="Arial"/>
              </a:rPr>
              <a:t>John M Ackerman, Director</a:t>
            </a:r>
            <a:br>
              <a:rPr sz="1800"/>
            </a:br>
            <a:r>
              <a:rPr b="0" i="1" lang="en-US" sz="1800" spc="-1" strike="noStrike">
                <a:solidFill>
                  <a:srgbClr val="ff985f"/>
                </a:solidFill>
                <a:latin typeface="Arial"/>
              </a:rPr>
              <a:t>Assoc. Professor of Communication</a:t>
            </a:r>
            <a:br>
              <a:rPr sz="1800"/>
            </a:br>
            <a:r>
              <a:rPr b="0" i="1" lang="en-US" sz="1800" spc="-1" strike="noStrike">
                <a:solidFill>
                  <a:srgbClr val="ff985f"/>
                </a:solidFill>
                <a:latin typeface="Arial"/>
              </a:rPr>
              <a:t>Ineva Baldwin Chair of Arts and Sciences</a:t>
            </a:r>
            <a:endParaRPr b="0" i="1" lang="en-US" sz="18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276360" y="2057040"/>
            <a:ext cx="5638680" cy="10666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ram for Writing and Rhetor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versity of Colorado ~ Boul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457200" y="3429000"/>
            <a:ext cx="6172200" cy="33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5 faculty, 15 GPTIs, 10 Lectur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25 Sections @ 20 per AY ~ 8000 students &gt; 24,000 SC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iversity-wide purview: 80% entering students, 80% continu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WR - 95% per course completion ra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CB - 80% retention rate, 60% graduation rate (we contribut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CB - 33% in state, 67% out of state (and climbing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diction - soon to be at 0% state fund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f611b"/>
                </a:solidFill>
                <a:latin typeface="Arial"/>
              </a:rPr>
              <a:t>Four corners of assessment: WPA, CCHE, NSSE, Flagship 20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5257800" y="3049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ff15"/>
                </a:solidFill>
                <a:latin typeface="Arial"/>
              </a:rPr>
              <a:t>Writing Inquiry Pro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985f"/>
                </a:solidFill>
                <a:latin typeface="Arial"/>
              </a:rPr>
              <a:t>Goals &amp; Assessments: Flagship 2030  </a:t>
            </a:r>
            <a:r>
              <a:rPr b="0" i="1" lang="en-US" sz="1600" spc="-1" strike="noStrike">
                <a:solidFill>
                  <a:srgbClr val="ff985f"/>
                </a:solidFill>
                <a:latin typeface="Arial"/>
              </a:rPr>
              <a:t>http://www.colorado.edu/flagship2030/</a:t>
            </a:r>
            <a:endParaRPr b="0" i="1" lang="en-US" sz="16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838080" y="1143000"/>
            <a:ext cx="762012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does all of this have to do with learning to writ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0% of our courses will soon be in RA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r instruction will soon  “internationalize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riting is a vehicle for inclusion and diver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WR is part of the Sustainability Initia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partner with Continuing Education (year roun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are pursuing “multi-literacy” (visual, new medi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are a “model project” for service lear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985f"/>
                </a:solidFill>
                <a:latin typeface="Arial"/>
              </a:rPr>
              <a:t>How might students be prepared in Colorado?</a:t>
            </a:r>
            <a:endParaRPr b="0" i="1" lang="en-US" sz="28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762120" y="2057400"/>
            <a:ext cx="8001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actical writing within and across digital environ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idential reasoning: from diverse 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gum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riting for specialized groups for actual probl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se readings: texts, talk, graphics, web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ing with audiences, clients in the wor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uming dense works: books, corpuses, data s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riting, talking, reading, do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985f"/>
                </a:solidFill>
                <a:latin typeface="Arial"/>
              </a:rPr>
              <a:t>Goals &amp; Assessments: WPA  </a:t>
            </a:r>
            <a:r>
              <a:rPr b="0" i="1" lang="en-US" sz="1600" spc="-1" strike="noStrike">
                <a:solidFill>
                  <a:srgbClr val="ff985f"/>
                </a:solidFill>
                <a:latin typeface="Arial"/>
              </a:rPr>
              <a:t>http://wpacouncil.org/positions/outcomes.html</a:t>
            </a:r>
            <a:endParaRPr b="0" i="1" lang="en-US" sz="1600" spc="-1" strike="noStrike">
              <a:solidFill>
                <a:srgbClr val="ff985f"/>
              </a:solidFill>
              <a:latin typeface="Arial"/>
            </a:endParaRPr>
          </a:p>
        </p:txBody>
      </p:sp>
      <p:pic>
        <p:nvPicPr>
          <p:cNvPr id="94" name="Picture 5" descr="Screen shot 2010-08-18 at 9"/>
          <p:cNvPicPr/>
          <p:nvPr/>
        </p:nvPicPr>
        <p:blipFill>
          <a:blip r:embed="rId1"/>
          <a:stretch/>
        </p:blipFill>
        <p:spPr>
          <a:xfrm>
            <a:off x="1066680" y="838080"/>
            <a:ext cx="7086600" cy="58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985f"/>
                </a:solidFill>
                <a:latin typeface="Arial"/>
              </a:rPr>
              <a:t>Goals &amp; Assessments: WPA  </a:t>
            </a:r>
            <a:r>
              <a:rPr b="0" i="1" lang="en-US" sz="1600" spc="-1" strike="noStrike">
                <a:solidFill>
                  <a:srgbClr val="ff985f"/>
                </a:solidFill>
                <a:latin typeface="Arial"/>
              </a:rPr>
              <a:t>http://wpacouncil.org/positions/outcomes.html</a:t>
            </a:r>
            <a:endParaRPr b="0" i="1" lang="en-US" sz="16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533520" y="1143000"/>
            <a:ext cx="81532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hetorical Knowledge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rpose, audience, sit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ventions, formality, gen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eld specifi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itical Thinking, Reading, Wri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ven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ic Environ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457200" y="54100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the end of the first year students should know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985f"/>
                </a:solidFill>
                <a:latin typeface="Arial"/>
              </a:rPr>
              <a:t>Goals &amp; Assessments: CCHE  </a:t>
            </a:r>
            <a:r>
              <a:rPr b="0" i="1" lang="en-US" sz="1400" spc="-1" strike="noStrike">
                <a:solidFill>
                  <a:srgbClr val="ff985f"/>
                </a:solidFill>
                <a:latin typeface="Arial"/>
              </a:rPr>
              <a:t>http://highered.colorado.gov/Academics/Transfers/gtPathways/</a:t>
            </a:r>
            <a:endParaRPr b="0" i="1" lang="en-US" sz="1400" spc="-1" strike="noStrike">
              <a:solidFill>
                <a:srgbClr val="ff985f"/>
              </a:solidFill>
              <a:latin typeface="Arial"/>
            </a:endParaRPr>
          </a:p>
        </p:txBody>
      </p:sp>
      <p:pic>
        <p:nvPicPr>
          <p:cNvPr id="99" name="Picture 4" descr="Screen shot 2010-08-18 at 9"/>
          <p:cNvPicPr/>
          <p:nvPr/>
        </p:nvPicPr>
        <p:blipFill>
          <a:blip r:embed="rId1"/>
          <a:stretch/>
        </p:blipFill>
        <p:spPr>
          <a:xfrm>
            <a:off x="1066680" y="876240"/>
            <a:ext cx="685800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985f"/>
                </a:solidFill>
                <a:latin typeface="Arial"/>
              </a:rPr>
              <a:t>Goals &amp; Assessments: CCHE  </a:t>
            </a:r>
            <a:r>
              <a:rPr b="0" i="1" lang="en-US" sz="1400" spc="-1" strike="noStrike">
                <a:solidFill>
                  <a:srgbClr val="ff985f"/>
                </a:solidFill>
                <a:latin typeface="Arial"/>
              </a:rPr>
              <a:t>http://highered.colorado.gov/Academics/Transfers/gtPathways/</a:t>
            </a:r>
            <a:endParaRPr b="0" i="1" lang="en-US" sz="1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304920" y="60199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“content” of state guaranteed communication cour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380880" y="1143000"/>
            <a:ext cx="83059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hetorical Knowledge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hetorical sit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ice, tone, format, stru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e gen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riting Proc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riting Conven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ent Knowledge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dience &amp; purp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ademic audie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aptation, trans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985f"/>
                </a:solidFill>
                <a:latin typeface="Arial"/>
              </a:rPr>
              <a:t>Goals &amp; Assessments: NSSE/WPA  http://comppile.org/wpa+nsse/</a:t>
            </a:r>
            <a:endParaRPr b="0" i="1" lang="en-US" sz="2000" spc="-1" strike="noStrike">
              <a:solidFill>
                <a:srgbClr val="ff985f"/>
              </a:solidFill>
              <a:latin typeface="Arial"/>
            </a:endParaRPr>
          </a:p>
        </p:txBody>
      </p:sp>
      <p:pic>
        <p:nvPicPr>
          <p:cNvPr id="104" name="Picture 4" descr="Screen shot 2010-08-18 at 10"/>
          <p:cNvPicPr/>
          <p:nvPr/>
        </p:nvPicPr>
        <p:blipFill>
          <a:blip r:embed="rId1"/>
          <a:stretch/>
        </p:blipFill>
        <p:spPr>
          <a:xfrm>
            <a:off x="304920" y="762120"/>
            <a:ext cx="8458200" cy="59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985f"/>
                </a:solidFill>
                <a:latin typeface="Arial"/>
              </a:rPr>
              <a:t>Goals &amp; Assessments: NSSE/WPA  http://comppile.org/wpa+nsse/</a:t>
            </a:r>
            <a:endParaRPr b="0" i="1" lang="en-US" sz="20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380880" y="762120"/>
            <a:ext cx="8382240" cy="56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uring the current school year, for how many of your writing assignments have you done each of the following: [All, Most, Some, Few, None]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rainstormed to develop your ide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alk with your instructor to develop ide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alked with classmat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ceived feedback from your instruct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ceived feedback from your classmat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Visited a campus writing cent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d an on-line tutoring 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oofread your draf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uring the current school year, in how many of your writing assignments did you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arrate or describe one of your experien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ummarize something you re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nalyze or evaluate something your re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scribe your methods or findings related to your data you collect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rgue a posi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xplain numerical or statistical da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in the style of a specific field (e.g., engineering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clude drawings, tables, photos, screen shots or other visual content…[25 more questions]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985f"/>
                </a:solidFill>
                <a:latin typeface="Arial"/>
              </a:rPr>
              <a:t>Goals &amp; Assessments: Flagship 2030  </a:t>
            </a:r>
            <a:r>
              <a:rPr b="0" i="1" lang="en-US" sz="1600" spc="-1" strike="noStrike">
                <a:solidFill>
                  <a:srgbClr val="ff985f"/>
                </a:solidFill>
                <a:latin typeface="Arial"/>
              </a:rPr>
              <a:t>http://www.colorado.edu/flagship2030/</a:t>
            </a:r>
            <a:endParaRPr b="0" i="1" lang="en-US" sz="1600" spc="-1" strike="noStrike">
              <a:solidFill>
                <a:srgbClr val="ff985f"/>
              </a:solidFill>
              <a:latin typeface="Arial"/>
            </a:endParaRPr>
          </a:p>
        </p:txBody>
      </p:sp>
      <p:pic>
        <p:nvPicPr>
          <p:cNvPr id="108" name="Picture 4" descr="Screen shot 2010-08-18 at 11"/>
          <p:cNvPicPr/>
          <p:nvPr/>
        </p:nvPicPr>
        <p:blipFill>
          <a:blip r:embed="rId1"/>
          <a:stretch/>
        </p:blipFill>
        <p:spPr>
          <a:xfrm>
            <a:off x="914400" y="744480"/>
            <a:ext cx="6934320" cy="61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985f"/>
                </a:solidFill>
                <a:latin typeface="Arial"/>
              </a:rPr>
              <a:t>Goals &amp; Assessments: Flagship 2030  </a:t>
            </a:r>
            <a:r>
              <a:rPr b="0" i="1" lang="en-US" sz="1600" spc="-1" strike="noStrike">
                <a:solidFill>
                  <a:srgbClr val="ff985f"/>
                </a:solidFill>
                <a:latin typeface="Arial"/>
              </a:rPr>
              <a:t>http://www.colorado.edu/flagship2030/</a:t>
            </a:r>
            <a:endParaRPr b="0" i="1" lang="en-US" sz="16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838080" y="1143000"/>
            <a:ext cx="7315200" cy="51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lagship Initiati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idential colle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stomized, experiential lear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earch Diamo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cending traditional bounda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lobal crossroa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versity vill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ternative degree trac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ear-round lear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king enterprise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9T03:30:48Z</dcterms:created>
  <dc:creator>John Ackerman</dc:creator>
  <dc:description/>
  <dc:language>en-US</dc:language>
  <cp:lastModifiedBy>steviq</cp:lastModifiedBy>
  <dcterms:modified xsi:type="dcterms:W3CDTF">2010-08-20T16:17:55Z</dcterms:modified>
  <cp:revision>4</cp:revision>
  <dc:subject/>
  <dc:title>John M Ackerman Assoc. Professor of Communication Ineva Baldwin Chair of Arts and Sciences</dc:title>
</cp:coreProperties>
</file>